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417-0E48-414F-AEE0-D92D1251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54A-26E2-4511-9C28-AF13210E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A2F-97D0-4161-9744-0530EA0A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F6D-966B-49F7-9E14-D229EB27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01B2-6E59-466A-96E7-028F42D1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D923-5929-4EB7-89F0-7246CF8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0760-E21F-4D9C-92AE-209491D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E5D-E8B8-4417-8B69-E1BF759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59EB-8CDE-4E0C-A578-83FFCECB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157C-E591-47DC-B759-B7D22846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2B4-CD44-4F98-9CB9-9854AA4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F33-18D7-41F2-89DC-B8C5AC7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72A1-A32A-4E3A-B3AF-A91CFF0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2F5A-F9B2-418B-8837-39B3F19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C213-4D00-4FEB-B911-609CD63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ECEF-20F4-4693-B59E-C648EA9E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C95-80C2-49A0-BBD3-7C00AB6B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49405-CCA6-4A0F-A6EB-F19DC513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DBD68-808A-4E07-A079-8BB9099B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F98BB-B47C-4A93-A785-C0C772F8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195F0-40E5-4B8D-9C8C-9359A50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979B8-D733-4150-AD98-49D23CB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941-CD02-4431-BA80-894C33B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A2044-ACAC-4AF9-9446-DC0DEA7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5F107-95AA-4027-BA52-696BD6F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F5DA1-4C88-41BB-89BC-B9F22B4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2B59F-E24A-48D5-B8A6-ED21AFE4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4737A-3BB9-4F42-BD76-51B51F6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ED941-06AF-4255-A45B-6BD19421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7F6EF-9DB6-4940-B3AA-4E46DDB0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E1DA-F15A-400A-8066-82E57940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5F2C-AA10-499B-BD7D-2D910D12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5F1D-878D-4CFC-B258-40F1991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EE9-E53A-4756-9DEA-D11BB74C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E4D5-5B1B-4793-B98E-0DCC7AA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6242-9F08-48F1-A166-1002E88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56C5-748B-4C9E-8AA8-9C8EFD9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C1E6-E779-4AAF-A67A-F9CF932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A5F6-608C-4FBC-BCAC-DF2BFFE1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F72A-798C-4906-866E-B3D4B15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9054-8771-4793-BD70-E130E73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C988-B5DE-41B5-968E-C8D24BF6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C862-86C5-4988-BFCE-5A68D0AB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DD07D-1DD5-4200-AC3B-0FB3FFFF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B68-6A9A-40B0-AA95-12BEDA2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6C20C-273D-4B96-A97F-857761D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8DC02-B24B-42EC-9D1D-7D7714E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AB108-80DF-49F2-A97E-524EFDD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07A39-BF4C-435C-A3B3-2038040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AFA1A-CF96-4D7B-89C7-19A5A68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8754B-B9E1-493C-97E0-828FA41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9D310-1604-4328-912F-2CBB810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DC10C-9DE3-499E-9237-B96A217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B8CEE-3F31-495F-A776-8D3D67D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E4A71-E5F3-4A60-B89A-89B61903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54B-5577-48B9-BC50-CC4C3B6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0B53A-0556-41FF-9962-891447F7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BBA76-0408-475C-9CE6-78DF5DEE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A8A8D-E47B-4192-8F87-C834E43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D0480-D9D4-4C6D-8D59-828F891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93483-AEE7-4AE6-B5E1-A023145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224AB-73D3-4996-8251-CC398F63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90103-BCB6-495D-8EC4-CEDC87D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A64DE-DD39-4440-BD16-4544300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B0DD1-088E-449D-A15C-59FC97D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3C59E-306F-4365-B3D1-1248DE9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B15-7EE9-4C81-8696-441BFD1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ABCF3-2BA3-4101-A45B-7D20922A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9FD92-CDD0-46EE-BAC9-74FCDD2D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8C44F-FC53-49DF-8D10-BE632567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DE786-47DF-4796-9B6F-691E6177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57ACE-4154-4E82-8BCB-3BD6C30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C7512-179F-4853-8E84-318D9543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FC88E-7A59-4548-9DCF-F17AF5F2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84037-B334-4A35-BB0C-A819449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CE80A-EC2A-4615-9EE2-C4F64C1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B55BC-EFA0-4610-833D-ACA42883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B0C-C211-48B4-9130-777E4FC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7A855-13AB-48B3-AC94-ED80147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7292A-0732-46C3-AB80-16EDCDC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F85A9-DBC7-4A2F-9D34-D887DB5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EF066-CD80-4D5C-9915-1478C6B6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6CD76-5563-4729-9020-BE7E2113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45B-1C17-434F-893F-3891672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236C-702D-4C56-9F79-F71156FEFC0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942B-9D45-4F59-A96B-737C59AFEF7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6B69-F13D-4A7B-A794-16A7AA72046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8D29-228B-48FC-92BA-127509D4D58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D47-2332-45E9-8E70-868925DABEE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0B27-C2AB-4629-B920-BE8BDE66246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2A7-D257-4D5B-981F-D40D254663FD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3200" y="3212640"/>
            <a:ext cx="8283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REUNIÃO DE PAIS/RESPONSÁVEIS DOS(AS) ALUNOS(AS) DOS CURSOS TÉCNICOS INTEGRADOS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SEMESTRE LETIVO </a:t>
            </a:r>
            <a:r>
              <a:rPr b="1" lang="pt-BR" sz="3200" spc="-1" strike="noStrike">
                <a:solidFill>
                  <a:srgbClr val="000000"/>
                </a:solidFill>
                <a:latin typeface="Aharoni"/>
                <a:ea typeface="Aharoni"/>
              </a:rPr>
              <a:t>2023.1</a:t>
            </a:r>
            <a:br>
              <a:rPr sz="2400"/>
            </a:br>
            <a:endParaRPr b="0" lang="en-US" sz="32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7640" y="3213000"/>
            <a:ext cx="6774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UTA: ACOMPANHAMENTO ACADÊ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08/05/20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Imagem 3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5337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tângulo 1"/>
          <p:cNvSpPr/>
          <p:nvPr/>
        </p:nvSpPr>
        <p:spPr>
          <a:xfrm>
            <a:off x="108000" y="1700280"/>
            <a:ext cx="8640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Moderar o uso de celular e tela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stimular com reforços positiv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Cuidar do tripé comida, sono e atividade físic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icas de um pai neurocientista para lidar com os adoles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ALGUMAS “DICAS”...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6084720" y="692280"/>
            <a:ext cx="2689560" cy="70164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6" descr=""/>
          <p:cNvPicPr/>
          <p:nvPr/>
        </p:nvPicPr>
        <p:blipFill>
          <a:blip r:embed="rId2"/>
          <a:srcRect l="29525" t="15000" r="20863" b="6601"/>
          <a:stretch/>
        </p:blipFill>
        <p:spPr>
          <a:xfrm>
            <a:off x="324000" y="1628640"/>
            <a:ext cx="8450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4716360" y="692280"/>
            <a:ext cx="4057920" cy="7016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2" descr=""/>
          <p:cNvPicPr/>
          <p:nvPr/>
        </p:nvPicPr>
        <p:blipFill>
          <a:blip r:embed="rId2"/>
          <a:srcRect l="30314" t="15000" r="20863" b="37400"/>
          <a:stretch/>
        </p:blipFill>
        <p:spPr>
          <a:xfrm>
            <a:off x="539640" y="1628640"/>
            <a:ext cx="806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e5b6f"/>
                </a:solidFill>
                <a:latin typeface="Bahnschrift Light Condensed"/>
              </a:rPr>
              <a:t>SISTEMÁTICA DE AVALIAÇÃO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55" name="Espaço Reservado para Conteúdo 4" descr=""/>
          <p:cNvPicPr/>
          <p:nvPr/>
        </p:nvPicPr>
        <p:blipFill>
          <a:blip r:embed="rId1"/>
          <a:srcRect l="37746" t="16667" r="16935" b="6190"/>
          <a:stretch/>
        </p:blipFill>
        <p:spPr>
          <a:xfrm>
            <a:off x="179280" y="836640"/>
            <a:ext cx="8713800" cy="5637240"/>
          </a:xfrm>
          <a:prstGeom prst="rect">
            <a:avLst/>
          </a:prstGeom>
          <a:ln w="0">
            <a:noFill/>
          </a:ln>
        </p:spPr>
      </p:pic>
      <p:cxnSp>
        <p:nvCxnSpPr>
          <p:cNvPr id="356" name="Conector de Seta Reta 6"/>
          <p:cNvCxnSpPr/>
          <p:nvPr/>
        </p:nvCxnSpPr>
        <p:spPr>
          <a:xfrm>
            <a:off x="456840" y="2491920"/>
            <a:ext cx="586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57" name="Conector de Seta Reta 8"/>
          <p:cNvCxnSpPr/>
          <p:nvPr/>
        </p:nvCxnSpPr>
        <p:spPr>
          <a:xfrm>
            <a:off x="1979280" y="1341000"/>
            <a:ext cx="1297800" cy="143640"/>
          </a:xfrm>
          <a:prstGeom prst="straightConnector1">
            <a:avLst/>
          </a:prstGeom>
          <a:ln w="28440">
            <a:solidFill>
              <a:srgbClr val="ea157a"/>
            </a:solidFill>
            <a:miter/>
            <a:tailEnd len="med" type="triangle" w="med"/>
          </a:ln>
        </p:spPr>
      </p:cxnSp>
      <p:sp>
        <p:nvSpPr>
          <p:cNvPr id="358" name="Chave Esquerda 10"/>
          <p:cNvSpPr/>
          <p:nvPr/>
        </p:nvSpPr>
        <p:spPr>
          <a:xfrm>
            <a:off x="457200" y="34290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have Direita 11"/>
          <p:cNvSpPr/>
          <p:nvPr/>
        </p:nvSpPr>
        <p:spPr>
          <a:xfrm>
            <a:off x="7924680" y="335772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Conector de Seta Reta 15"/>
          <p:cNvCxnSpPr/>
          <p:nvPr/>
        </p:nvCxnSpPr>
        <p:spPr>
          <a:xfrm>
            <a:off x="324000" y="5229000"/>
            <a:ext cx="4276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42080"/>
          </a:xfrm>
          <a:prstGeom prst="rect">
            <a:avLst/>
          </a:prstGeom>
          <a:ln w="0">
            <a:noFill/>
          </a:ln>
        </p:spPr>
      </p:pic>
      <p:cxnSp>
        <p:nvCxnSpPr>
          <p:cNvPr id="363" name="Conector de seta reta 4"/>
          <p:cNvCxnSpPr/>
          <p:nvPr/>
        </p:nvCxnSpPr>
        <p:spPr>
          <a:xfrm>
            <a:off x="142560" y="3644640"/>
            <a:ext cx="86436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4" name="Elipse 3"/>
          <p:cNvSpPr/>
          <p:nvPr/>
        </p:nvSpPr>
        <p:spPr>
          <a:xfrm>
            <a:off x="1042920" y="34225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5802480"/>
          </a:xfrm>
          <a:prstGeom prst="rect">
            <a:avLst/>
          </a:prstGeom>
          <a:ln w="0">
            <a:noFill/>
          </a:ln>
        </p:spPr>
      </p:pic>
      <p:cxnSp>
        <p:nvCxnSpPr>
          <p:cNvPr id="367" name="Conector de seta reta 4"/>
          <p:cNvCxnSpPr/>
          <p:nvPr/>
        </p:nvCxnSpPr>
        <p:spPr>
          <a:xfrm flipH="1">
            <a:off x="4426920" y="3573000"/>
            <a:ext cx="136908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8" name="Conector de seta reta 6"/>
          <p:cNvCxnSpPr/>
          <p:nvPr/>
        </p:nvCxnSpPr>
        <p:spPr>
          <a:xfrm flipH="1">
            <a:off x="7524000" y="4005000"/>
            <a:ext cx="9356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18440" cy="5875560"/>
          </a:xfrm>
          <a:prstGeom prst="rect">
            <a:avLst/>
          </a:prstGeom>
          <a:ln w="0">
            <a:noFill/>
          </a:ln>
        </p:spPr>
      </p:pic>
      <p:cxnSp>
        <p:nvCxnSpPr>
          <p:cNvPr id="371" name="Conector de seta reta 4"/>
          <p:cNvCxnSpPr/>
          <p:nvPr/>
        </p:nvCxnSpPr>
        <p:spPr>
          <a:xfrm>
            <a:off x="1692000" y="4005000"/>
            <a:ext cx="1151640" cy="14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e5b6f"/>
                </a:solidFill>
                <a:latin typeface="Bahnschrift Light Condensed"/>
              </a:rPr>
              <a:t>COMO ACOMPANHAR SEU FILHO, SUA FILHA ?</a:t>
            </a:r>
            <a:endParaRPr b="0" lang="en-US" sz="2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ompanhando se seu(sua) filho(a) realiza momentos de estudos, revisões, realiza as atividades e os trabalhos, frequenta e participa das aul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mbre-se!: 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adolescência é uma etapa "tanto de mais vulnerabilidade quanto potencial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 jovem é um ser em trânsito entre o que já não é e o que ainda não 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313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e5b6f"/>
                </a:solidFill>
                <a:latin typeface="Arial"/>
              </a:rPr>
              <a:t>CALENDÁRIO TÉCNICO INTEGRADO  EM SEGURANÇA DO TRABALHO</a:t>
            </a:r>
            <a:endParaRPr b="0" lang="en-US" sz="27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7" name="Espaço Reservado para Conteúdo 4" descr=""/>
          <p:cNvPicPr/>
          <p:nvPr/>
        </p:nvPicPr>
        <p:blipFill>
          <a:blip r:embed="rId1"/>
          <a:srcRect l="21354" t="9810" r="21756" b="14761"/>
          <a:stretch/>
        </p:blipFill>
        <p:spPr>
          <a:xfrm>
            <a:off x="457200" y="1052640"/>
            <a:ext cx="8229600" cy="5256000"/>
          </a:xfrm>
          <a:prstGeom prst="rect">
            <a:avLst/>
          </a:prstGeom>
          <a:ln w="0">
            <a:noFill/>
          </a:ln>
        </p:spPr>
      </p:pic>
      <p:cxnSp>
        <p:nvCxnSpPr>
          <p:cNvPr id="378" name="Conector de Seta Reta 6"/>
          <p:cNvCxnSpPr/>
          <p:nvPr/>
        </p:nvCxnSpPr>
        <p:spPr>
          <a:xfrm>
            <a:off x="4284720" y="6237000"/>
            <a:ext cx="57528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9" name="Conector de Seta Reta 8"/>
          <p:cNvCxnSpPr/>
          <p:nvPr/>
        </p:nvCxnSpPr>
        <p:spPr>
          <a:xfrm>
            <a:off x="4140000" y="5084280"/>
            <a:ext cx="719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Conector de Seta Reta 9"/>
          <p:cNvCxnSpPr/>
          <p:nvPr/>
        </p:nvCxnSpPr>
        <p:spPr>
          <a:xfrm>
            <a:off x="3780000" y="5229000"/>
            <a:ext cx="721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1" name="Conector de Seta Reta 11"/>
          <p:cNvCxnSpPr/>
          <p:nvPr/>
        </p:nvCxnSpPr>
        <p:spPr>
          <a:xfrm>
            <a:off x="456840" y="5660640"/>
            <a:ext cx="586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2" name="Conector de Seta Reta 13"/>
          <p:cNvCxnSpPr/>
          <p:nvPr/>
        </p:nvCxnSpPr>
        <p:spPr>
          <a:xfrm>
            <a:off x="3995640" y="5621040"/>
            <a:ext cx="1440360" cy="10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0977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ALENDÁRIO INTEGRADOS 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84" name="Espaço Reservado para Conteúdo 4" descr=""/>
          <p:cNvPicPr/>
          <p:nvPr/>
        </p:nvPicPr>
        <p:blipFill>
          <a:blip r:embed="rId1"/>
          <a:srcRect l="22070" t="16667" r="21756" b="6190"/>
          <a:stretch/>
        </p:blipFill>
        <p:spPr>
          <a:xfrm>
            <a:off x="324000" y="1417680"/>
            <a:ext cx="7993080" cy="5165640"/>
          </a:xfrm>
          <a:prstGeom prst="rect">
            <a:avLst/>
          </a:prstGeom>
          <a:ln w="0">
            <a:noFill/>
          </a:ln>
        </p:spPr>
      </p:pic>
      <p:cxnSp>
        <p:nvCxnSpPr>
          <p:cNvPr id="385" name="Conector de Seta Reta 6"/>
          <p:cNvCxnSpPr/>
          <p:nvPr/>
        </p:nvCxnSpPr>
        <p:spPr>
          <a:xfrm flipH="1">
            <a:off x="6084360" y="2636640"/>
            <a:ext cx="504000" cy="1080"/>
          </a:xfrm>
          <a:prstGeom prst="straightConnector1">
            <a:avLst/>
          </a:prstGeom>
          <a:ln w="572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6" name="Conector de Seta Reta 8"/>
          <p:cNvCxnSpPr/>
          <p:nvPr/>
        </p:nvCxnSpPr>
        <p:spPr>
          <a:xfrm flipH="1">
            <a:off x="2483640" y="6165360"/>
            <a:ext cx="793080" cy="1080"/>
          </a:xfrm>
          <a:prstGeom prst="straightConnector1">
            <a:avLst/>
          </a:prstGeom>
          <a:ln w="284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7" name="Conector de Seta Reta 10"/>
          <p:cNvCxnSpPr/>
          <p:nvPr/>
        </p:nvCxnSpPr>
        <p:spPr>
          <a:xfrm flipH="1">
            <a:off x="2699640" y="6021000"/>
            <a:ext cx="8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20:47:46Z</dcterms:created>
  <dc:creator>Ediliene</dc:creator>
  <dc:description/>
  <dc:language>en-US</dc:language>
  <cp:lastModifiedBy>Reginaldo</cp:lastModifiedBy>
  <dcterms:modified xsi:type="dcterms:W3CDTF">2023-07-17T17:01:27Z</dcterms:modified>
  <cp:revision>55</cp:revision>
  <dc:subject/>
  <dc:title>Apresentação do PowerPoint</dc:title>
</cp:coreProperties>
</file>